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F93-DF9C-415E-A1FD-14783130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5506-677C-4CA0-826C-6363426B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310-920D-4480-80D6-4F96F1E6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7EC-9034-4E43-B42B-E08983DA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FD0-EC8F-4795-9B45-41E72364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4E6-F684-454E-BE25-1EE3BB62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AEB0-902B-415B-B4EA-5EC7C832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6BEE-0C22-4937-9227-97505943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DB22-35CC-495B-968A-5C1ABC26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94A-E2A5-4D65-8191-0AB9C91B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34C-A974-4F6A-8B49-AF728170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F09-B493-45E3-ABB0-BDBBDA36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ECC8-E201-40B2-9A59-64E9C6058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12193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The conditions under which instructional animation may be effective</a:t>
            </a:r>
            <a:r>
              <a:rPr b="1" lang="en-A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Paul Ayres, Slava Kalyuga, Nadine Marcus &amp; John Swell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University of New South Wales, Sydney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Paper presented at an 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International Workshop and Mini-conference, Open University of the Netherlan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29August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Lowering Extraneous cognitive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quiring sufficient prior knowledg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some knowledge WM constraints caused by the transitory nature becomes less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yer, Mathias, and Wetzell (2002) found that </a:t>
            </a:r>
            <a:r>
              <a:rPr b="0" i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-training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was beneficial in a multimedia (animated)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larke, Ayres &amp; Sweller (2005) found pre-training on spreadshe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effective for no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ac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act the transitory nature of animations and decrease extraneous load by keeping information available on the screen lo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vidence with Japanese writing (Marcus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nimation types may automatically do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Lowering Extraneous CL c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arner control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op the animation. WM overload can be avoided if the learner is in control of the pace (see Mayer and Chandler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gmen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f animations can be transformed in some way then they may become less demanding on WM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er and Chandler (2001) found that segmenting an animation into parts proved 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quencing statics and ani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tatics before animations for no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 possible expertise-reversal effect for more  knowledgeable l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reasing Germane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activ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interactivity which may stimulate learners to invest more mental effort in learning (see Bodemer et al., 2004; Lowe, 2004; Schnotz &amp; Rasch, 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di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egarty et al. (2003) found that combining predictions with animations was more effective than animations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y not work for novices as it could increase extraneous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oduce results similar to the use of imagination (Coop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indall-Ford, Chandler, &amp; Sweller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structional animations have been introduced with little or no reference to human cognitive function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s a consequence the use of computer-based animations frequently have not led to better learning environ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o be effective new instructional technologies must be closely aligned with a knowledge of learning princip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LT may provide a comprehensive theory to explain why animations have frequently failed as an instructional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LT may be able to identify a number of conditions under which animations can become effec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diagrams v anim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imations (dynamic representations) have not been found to be more effective than the equivalent static graphics (Hegarty, Kriz &amp; Cate, 2003; Tversky, Morrison, &amp; Betrancourt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yer, Hegarty &amp; Mayer (2005) found that statics we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Koroghlanian and Klein (2004) found that more time was spent studying the information, with no learning g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we (1999, 2003) argued that learners’ attention was diverted away from key less-obvious features,  suggesting a split attention type of effect.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 for a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conditions, such as interactivity, improve their relative effectiveness (Bodemer, Ploetzner, Feuerlein, &amp; Spada, 2004; Lowe, 2004; Schnotz &amp; Rasch, 2005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equently, the overall results on animations are somewhat inconclu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a need for a comprehensive theory to explain the cognitive processes involved in learning from anim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notable exceptions of Mayer’s generative theory of multimedia learning (2001) and CLT there has been little guidance on how to design and use animations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Fred Paas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In this presentation, I analyse animation from a CLT perspective and argue that CLT may “have some answe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gnitive Load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ong-term memory (LTM) is viewed as the central, dominant structure of human cogni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LTM incorporates a massive knowledg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 contrast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Working memory (WM)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is very limited both in duration and capacity (especially when processing novel informat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owever, when dealing with previously learned information these limitations disappear. Large amounts of information can be brought back from LTM to W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altered characteristics of WM when processing familiar information, has led to the idea of a long-term working memory (Ericsson and Kintsch, 19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Types of Cognitive load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allenged at EARLI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insic: Element inter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neous: Instructional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rmane: Investment in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T assumes that learning is inhibited if total CL is overlo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4191120"/>
          <a:ext cx="754380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91120"/>
                    <a:ext cx="75438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Characteristics of anima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nimation has two critical characteristics that may explain its lack of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1. Information is transitory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nless rehearsed, material will remain in WM for no more than a few seco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ifficult to both process current information and remember previous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 contrast, static graphical displays can be revisited a number of times, reducing the problems associated with a limited  W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n this sense, animation produces an extraneous cognitive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Retroactive inhib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2. Animations consists of a series of successive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f Element A must be learned first followed by Element B, learning B may interfere with what has already been learned of 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f Element A is to be remembered, it will need to be transferred to LTM because it will only remain in WM for a few second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I will occur if Element B must be processed before Element A has had time to be transferred to L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ith static graphics more time can be made available to transfer the information associated with Element A to LTM prior to processing the information of Elemen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yres &amp; Mayer (in prep.) have found some evidence of RI with anim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ditions under which animation is likely to be eff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358128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general multimedia princip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he design of animations can in many cases be automatically improved by applying principles consistent wit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tive theory of multimedia learning and C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lit attention etc can be avoi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05:59:41Z</dcterms:created>
  <dc:creator>FoAaSS FoAaSS</dc:creator>
  <dc:description/>
  <dc:language>en-US</dc:language>
  <cp:lastModifiedBy>Kicken, Wendy</cp:lastModifiedBy>
  <dcterms:modified xsi:type="dcterms:W3CDTF">2005-09-05T07:05:02Z</dcterms:modified>
  <cp:revision>41</cp:revision>
  <dc:subject/>
  <dc:title>PowerPoint Presentation</dc:title>
</cp:coreProperties>
</file>